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CCE-5559-41B2-9A43-15A113BF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29C-4B07-4EA6-9F36-34236D8C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86E-DB56-45C2-927E-FBEAA539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04E-4029-45A9-B472-FE1BD6F0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17E-09F7-4C5E-B713-1088D461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88D-EAD8-4736-9027-9CCA49EC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3D8-4494-45A9-87AE-E715E34E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D7E-4584-45C1-81D4-75D8606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C7B-D7C7-42B4-A4D9-E9CF7F3A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B6B-44C2-460D-90D0-0566B32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C74-5233-474E-84E1-0AD1F0F6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DAC-9FD5-46CD-A60B-D39EF5A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4DE1-A7F5-460D-A9F7-203274341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____________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_____ of the cultures of _______ and ______. Spanish author, ______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, and _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instead ran into the __________ islands. However, his discovery spread rapidly by _______’s invention of the printing press.  Thus, he was considered to have “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instead ran into 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ribb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lands. However, his discovery spread rapidly by __________’s invention of the printing press.  Thus, he was considered to have “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instead ran into 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ribb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lands. However, his discovery spread rapidly by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utenbur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s invention of the printing press.  Thus, he was considered to have “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instead ran into 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ribb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lands. However, his discovery spread rapidly by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utenbur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s invention of the printing press.  Thus, he was considered to hav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“discovered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3352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_____________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____. He died on the way, but his crew became the first people to ___________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____________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3352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____. He died on the way, but his crew became the first people to ___________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____________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3352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___________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____________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____________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______ of the cultures of ______ and _______. Spanish author, ______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__, and 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___________ landed in South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izza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_______ and _____. Spanish author, _______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, ____, and _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izza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quickly conquered them (aided by the spread of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izza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quickly conquered them (aided by the spread of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ich killed millions of Indians) and claimed the land fo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pai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_______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__________ Exchange developed as a result of exploration as well. _____, _____, and _______ were sent to America from Europe. ______, _______, and ______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_________ Exchange developed as a result of exploration as well. _____, _____, and _______ were sent to America from Europe. ______, _______, and ______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_____, _____, and _______ were sent to America from Europe. ______, _______, and ______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r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attl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to America from Europe. _____, _______, and ______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r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attl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to America from Europe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tobac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r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attl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to America from Europe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tobac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from America to Europe. The effects of the Columbian exchange cause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.R.O.P.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r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attl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to America from Europe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tobac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from America to Europe. The effects of the Columbian exchange cause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.R.O.P.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Jesuit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__________, a very absolutist form of government. But that is expected since they were only imitating their _____ country. Spanish colonies also had a ____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_________, and economic theory that said power comes from wealth, specifically having the most______ (silver and gold). Spain had the most ______, but it caused severe 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________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, and 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_____ country. Spanish colonies also had a ____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_________, and economic theory that said power comes from wealth, specifically having the most______ (silver and gold). Spain had the most ______, but it caused severe 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____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_________, and economic theory that said power comes from wealth, specifically having the most______ (silver and gold). Spain had the most ______, but it caused severe 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_________, and economic theory that said power comes from wealth, specifically having the most______ (silver and gold). Spain had the most ______, but it caused severe 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______ (silver and gold). Spain had the most ______, but it caused severe 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 bull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silver and gold). Spain had the most _____, but it caused severe _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 bull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silver and gold). Spain had the most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ull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but it caused severe _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 bull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silver and gold). Spain had the most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ull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but it caused sever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flat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 bull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silver and gold). Spain had the most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ull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but it caused sever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flat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rise in prices), ruining their economy. Spain did not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ustrializ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, and 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_, and _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 sailed west in search of a western route to _______, but instead ran into the ________ islands. However, his discovery spread rapidly by _______’s invention of the printing press.  Thus, he was considered to have “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____, and 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 sailed west in search of a western route to ____, but instead ran into the _______ islands. However, his discovery spread rapidly by ______’s invention of the printing press.  Thus, he was considered to have “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 sailed west in search of a western route to __________, but instead ran into the _________ islands. However, his discovery spread rapidly by __________’s invention of the printing press.  Thus, he was considered to have “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__________, but instead ran into the ____________ islands. However, his discovery spread rapidly by ______’s invention of the printing press.  Thus, he was considered to have “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23:11:05Z</dcterms:created>
  <dc:creator>m ingerson</dc:creator>
  <dc:description/>
  <dc:language>en-US</dc:language>
  <cp:lastModifiedBy>Salem City  Schools</cp:lastModifiedBy>
  <dcterms:modified xsi:type="dcterms:W3CDTF">2003-05-13T10:31:37Z</dcterms:modified>
  <cp:revision>25</cp:revision>
  <dc:subject/>
  <dc:title>No Slide Title</dc:title>
</cp:coreProperties>
</file>